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8ECD801-E78A-4B41-B4A8-730D93710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12AC8B4-1987-45D8-BADD-3B733286B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5D95505-AFCD-4C41-BF02-E95FBB7D3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D635616-2FD5-4F93-9B48-51424B85F4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14694A3-290D-4157-8800-1575CE4AA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ADC9903-10A0-4D3F-813E-D4CBA00220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492860A-DC85-4D11-8F4E-7D148440F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A799536-88DC-4BB9-99B5-28F95235D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CBC17EE-93AC-4C09-B04B-653552443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8797071-E8A3-45BD-8A4A-E37821E507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C9C3ACD-6D01-49A3-8C67-4B55A10E0A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BF054CD-B518-4283-A4F2-D53DC831C2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4D86A8A-A658-423E-A0CC-7C1EDBECA4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EA0D70-F520-46E7-B647-EF58B8F00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6BDC61-71DA-4D33-B75C-7CFBB514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BDC4F0-558A-4931-A4D8-C1B2EB83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31E13B-94D2-4818-A664-25D89B3D5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623016-348B-4491-9675-8F8114FC6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3B73E2-0699-4339-A74A-7B930B1D2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F5F674-987C-49CA-8B37-13B81AFE3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FCE02EF-9349-4C41-A714-DE15D9CEE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D057B6-10DA-4038-8C5B-6F914F02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2095F2-1509-42F5-BFE5-C9FD2C0F3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7D6D21-DBB0-48F2-8DDC-5DAE19B69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EC14277-DB3E-46EB-B771-DEB51A44A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C1FBEE5-FB4E-47F8-A591-F43BAB66E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6C4195-3E62-439D-8046-720F9FA92D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CF2F6-673B-449F-B4E6-E56906A4B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C8AB4-E39A-452E-A547-C2C23FBC5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12217-6F0E-4D2A-969E-CAD6C5C4E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223F8-9DAF-44F6-B317-90274C170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D3B5F6B-C3B6-4628-A997-B13E008B4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13EBB-AECB-42EC-B138-8D58C0365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5A94A-63FD-4F99-9D7C-1546469BE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73846-2C1C-4393-A458-71E2DDAF7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3704B-F183-47C0-BD23-21E712EFC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20E30-EB25-43BC-A57D-BE3515E19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98454-695A-47AE-9843-F49CEAA23D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303DCD-2F60-46E5-A20B-2F31FDCA52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C1D1D76-EAF3-4EE4-B4A1-D1D127B8F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1BAE25-FA3F-432E-A789-C9DFA2A261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D50E68-AF92-4DE7-BF62-6B02132B5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BE2C083-80AE-4FED-A433-1483F1680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4E6B5D-2CF0-4B66-B931-B737B0C13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88456C-CB1E-43D3-8569-AC5F9DDD6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293FC1-679E-4D72-A0BF-4D343FFA6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6124AF-1F3E-466D-B845-14716CD1D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15C005-B203-4896-AA51-B91202E2F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6D7EBF-E049-4DFB-AF86-027782DAF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6D17D2-220D-4877-BE5D-D071272FF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FD949B-CA3E-49C7-B26E-58B67C612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C5C0EBD-D81E-4D4F-90C4-087E12D6AB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48835-7079-41E7-8C14-C44E6B37DD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4B77948-3B16-46A1-955C-CB8A91834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95207-5AF1-41F2-B61A-1B55C52B7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49C2F-0260-433E-8F2A-DFA168E5A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C6F6D2-A912-4008-BD14-345FF4EE6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BD905-4232-4AC9-8236-A2DBA88DF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23E12-C018-4A53-8FB2-25718A53E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B3772-86E5-491C-BCEB-95D7C5FB0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BC056-7876-4A10-BFCB-5FFC4E38D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8F047-D1D2-412B-ADFB-EC8231614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0F49C1-6736-4C35-B9E7-54744AC8C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8BF1EF-63A7-4F05-A674-4A74068D0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B9B115A-CF30-4BEB-A333-9925A659A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CF8079-2BC4-454E-8B8F-47EC3A8FD4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BF992A-B8CC-402F-B9E0-EC104EF61F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C8895-1AEC-46FE-91FB-C215015C1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3ABD3-47F7-46B9-B072-4AAC041A8F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034D7-4AA9-4961-B8DC-8E4293024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B78595-4910-45E2-9B7B-F83591C2C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7DCEE-BCFE-4FDF-A95B-B90ADB5B2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6BAE5-EB05-4A01-BC7C-CB8A9A65F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881F7-6F54-48CF-8021-2865DB678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6D0DF-E35A-4CC2-9254-222DA5056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B1145BD-C7B4-4E3B-9F67-C329DEECB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6831B-F8C6-425C-BF42-748DEAAE9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932C24-7ACC-4B77-AF78-A0D243854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9B973B-410D-4B52-901D-89A9DFC875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392439-12D0-457F-80CC-C94BF23CD6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FADA5-332E-48E8-9E22-E0051A507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8BE81-8275-4E21-88A8-ECAA9E48C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3EB0B7-48E9-494E-95FB-B202EEB4D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53275-3C46-490D-B24A-D8BF81CEA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9A17F-1669-41CE-A66A-4764B92088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3F3D5-E16F-45A4-9CCF-770A8A5C1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4B2C754-A2CD-4984-9BA5-166F47507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A9ABBF-F932-464B-86E3-688D19BE0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CFBC8-A121-4EFD-B5C1-0A8FC48AE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4ED39-0370-4423-B0F7-D8F90D16D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6EC2AA-5BA5-487A-9B91-38046BEE35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318448-A46D-4F39-934F-6F3C22C03C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A3A30FE-6264-4B70-AC56-3A48E314F5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28A5CEA-6814-47AC-B977-4CF65D4E7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EE364D3-0443-4CC7-95B7-3E41826DC6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F0AB4E5-8B10-4D63-9E4E-13346C3D3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5A7B233-D174-48AC-9A34-7B647BCAA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17345BA-B7BA-4D97-BCA1-53CE27BC7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FC99580-F5C1-4D1E-A09C-BECDF00E41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C767F93-1DB7-4BEE-AD06-D6A48B301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6960AFB-0ABC-4130-85EC-E2E2FC4A6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C140CE9-2E20-46B6-BCF0-5489F045F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16D9A34-2E25-4C2C-A10B-C269641EE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BD817AA-5C14-415E-B32D-8D6822788D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3B147B6-D345-466E-867E-0E332EF63A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E8BD72B-EA77-4C8D-84E7-04FE8CC7F9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D6D9092-A10C-4609-96CC-30706C10FF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857C8C8-8C97-4329-B687-DC6C889501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D38F-EEF4-4066-B6A9-8A56B4DCAA1C}"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95B2-F9EC-4D47-B679-A996F391B5CA}"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1313-06EB-4509-A5F8-6BADE4868A1A}"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5EE5-021C-4622-B4A0-5465D2FDCBDE}"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3131-0F1C-4266-9E91-906F9799BC88}"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C0C3-EB26-428D-A9D8-950956ACAACC}"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303C-E3EA-47DD-ABF9-5B13B3F97DFE}"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0D46-6231-4125-9582-3BBF44AB7CA8}"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2225-6ADC-4288-9391-B9F57070CC7C}" type="slidenum">
              <a:rPr b="0" lang="ro-RO"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lamit.ro/earthquake-early-warning-system.htm" TargetMode="External"/><Relationship Id="rId3" Type="http://schemas.openxmlformats.org/officeDocument/2006/relationships/hyperlink" Target="http://ro.wikipedia.org/wiki/Cutremur" TargetMode="External"/><Relationship Id="rId4" Type="http://schemas.openxmlformats.org/officeDocument/2006/relationships/hyperlink" Target="http://www.1235.ro/details-id10442-sCutremur-in-aceasta-dimineata.html" TargetMode="External"/><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457200" y="378000"/>
            <a:ext cx="8242200" cy="101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146160"/>
            <a:ext cx="8242560" cy="116496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2"/>
              </a:rPr>
              <a:t>http://www.lamit.ro/earthquake-early-warning-system.htm</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3"/>
              </a:rPr>
              <a:t>http://ro.wikipedia.org/wiki/Cutremur</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db5353"/>
                </a:solidFill>
                <a:uFillTx/>
                <a:latin typeface="Rockwell"/>
                <a:hlinkClick r:id="rId4"/>
              </a:rPr>
              <a:t>http://www.1235.ro/details-id10442-sCutremur-in-aceasta-dimineata.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timpul.md/articol/vrancea-ne-aminteste-ca-exista-18426.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e-referate.ro/referate/Modalitati_de_protejare_impotriva_cutremurelor2006-11-22.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situatii-de-urgenta.blogspot.com/</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forum.torrents.ro/mondenitati/8011-news-pack-10-04-2009-a.html</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www.blog.noiconstruim.ro/2010/11/mituri-despre-cutremure/</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http://revgeographia.wordpress.com/2008/05/12/cutremurul-din-1977/</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0720" y="249120"/>
            <a:ext cx="8242560" cy="1165320"/>
          </a:xfrm>
          <a:prstGeom prst="rect">
            <a:avLst/>
          </a:prstGeom>
          <a:ln w="0">
            <a:noFill/>
          </a:ln>
        </p:spPr>
      </p:pic>
      <p:pic>
        <p:nvPicPr>
          <p:cNvPr id="396" name="Picture 2" descr=""/>
          <p:cNvPicPr/>
          <p:nvPr/>
        </p:nvPicPr>
        <p:blipFill>
          <a:blip r:embed="rId2"/>
          <a:stretch/>
        </p:blipFill>
        <p:spPr>
          <a:xfrm>
            <a:off x="1219320" y="1676520"/>
            <a:ext cx="66816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49120"/>
            <a:ext cx="8242560" cy="1165320"/>
          </a:xfrm>
          <a:prstGeom prst="rect">
            <a:avLst/>
          </a:prstGeom>
          <a:ln w="0">
            <a:noFill/>
          </a:ln>
        </p:spPr>
      </p:pic>
      <p:sp>
        <p:nvSpPr>
          <p:cNvPr id="398" name=""/>
          <p:cNvSpPr txBox="1"/>
          <p:nvPr/>
        </p:nvSpPr>
        <p:spPr>
          <a:xfrm>
            <a:off x="457200" y="1646280"/>
            <a:ext cx="8229600" cy="4525920"/>
          </a:xfrm>
          <a:prstGeom prst="rect">
            <a:avLst/>
          </a:prstGeom>
          <a:noFill/>
          <a:ln w="0">
            <a:noFill/>
          </a:ln>
        </p:spPr>
        <p:txBody>
          <a:bodyPr lIns="90000" rIns="90000" tIns="46800" bIns="46800" anchor="t">
            <a:normAutofit fontScale="94000"/>
          </a:bodyPr>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În momentul în care se declanşează cutremurul, din epicentru, vor porni unde de şoc.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Primele </a:t>
            </a:r>
            <a:r>
              <a:rPr b="0" lang="ro-RO" sz="2800" spc="-1" strike="noStrike">
                <a:solidFill>
                  <a:srgbClr val="ffffff"/>
                </a:solidFill>
                <a:latin typeface="Rockwell"/>
              </a:rPr>
              <a:t>perturbaţii</a:t>
            </a:r>
            <a:r>
              <a:rPr b="0" lang="vi-VN" sz="2800" spc="-1" strike="noStrike">
                <a:solidFill>
                  <a:srgbClr val="ffffff"/>
                </a:solidFill>
                <a:latin typeface="Times New Roman"/>
              </a:rPr>
              <a:t> care vor porni </a:t>
            </a:r>
            <a:r>
              <a:rPr b="0" lang="ro-RO" sz="2800" spc="-1" strike="noStrike">
                <a:solidFill>
                  <a:srgbClr val="ffffff"/>
                </a:solidFill>
                <a:latin typeface="Rockwell"/>
              </a:rPr>
              <a:t>sunt</a:t>
            </a:r>
            <a:r>
              <a:rPr b="0" lang="vi-VN" sz="2800" spc="-1" strike="noStrike">
                <a:solidFill>
                  <a:srgbClr val="ffffff"/>
                </a:solidFill>
                <a:latin typeface="Times New Roman"/>
              </a:rPr>
              <a:t> unde</a:t>
            </a:r>
            <a:r>
              <a:rPr b="0" lang="ro-RO" sz="2800" spc="-1" strike="noStrike">
                <a:solidFill>
                  <a:srgbClr val="ffffff"/>
                </a:solidFill>
                <a:latin typeface="Rockwell"/>
              </a:rPr>
              <a:t>le</a:t>
            </a:r>
            <a:r>
              <a:rPr b="0" lang="vi-VN" sz="2800" spc="-1" strike="noStrike">
                <a:solidFill>
                  <a:srgbClr val="ffffff"/>
                </a:solidFill>
                <a:latin typeface="Times New Roman"/>
              </a:rPr>
              <a:t> primare sau unde P</a:t>
            </a:r>
            <a:r>
              <a:rPr b="0" lang="ro-RO" sz="2800" spc="-1" strike="noStrike">
                <a:solidFill>
                  <a:srgbClr val="ffffff"/>
                </a:solidFill>
                <a:latin typeface="Rockwell"/>
              </a:rPr>
              <a:t> - unde</a:t>
            </a:r>
            <a:r>
              <a:rPr b="0" lang="vi-VN" sz="2800" spc="-1" strike="noStrike">
                <a:solidFill>
                  <a:srgbClr val="ffffff"/>
                </a:solidFill>
                <a:latin typeface="Times New Roman"/>
              </a:rPr>
              <a:t> longitudinale</a:t>
            </a:r>
            <a:r>
              <a:rPr b="0" lang="ro-RO" sz="2800" spc="-1" strike="noStrike">
                <a:solidFill>
                  <a:srgbClr val="ffffff"/>
                </a:solidFill>
                <a:latin typeface="Rockwell"/>
              </a:rPr>
              <a:t> (s</a:t>
            </a:r>
            <a:r>
              <a:rPr b="0" lang="vi-VN" sz="2800" spc="-1" strike="noStrike">
                <a:solidFill>
                  <a:srgbClr val="ffffff"/>
                </a:solidFill>
                <a:latin typeface="Times New Roman"/>
              </a:rPr>
              <a:t>e propagă asemănător cu undele sonore</a:t>
            </a:r>
            <a:r>
              <a:rPr b="0" lang="ro-RO" sz="2800" spc="-1" strike="noStrike">
                <a:solidFill>
                  <a:srgbClr val="ffffff"/>
                </a:solidFill>
                <a:latin typeface="Rockwell"/>
              </a:rPr>
              <a:t>)</a:t>
            </a:r>
            <a:r>
              <a:rPr b="0" lang="vi-VN" sz="2800" spc="-1" strike="noStrike">
                <a:solidFill>
                  <a:srgbClr val="ffffff"/>
                </a:solidFill>
                <a:latin typeface="Times New Roman"/>
              </a:rPr>
              <a:t>.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Undele primare sunt urmate de undele secundare, sau undele S</a:t>
            </a:r>
            <a:r>
              <a:rPr b="0" lang="ro-RO" sz="2800" spc="-1" strike="noStrike">
                <a:solidFill>
                  <a:srgbClr val="ffffff"/>
                </a:solidFill>
                <a:latin typeface="Rockwell"/>
              </a:rPr>
              <a:t>: vibraţiile sunt </a:t>
            </a:r>
            <a:r>
              <a:rPr b="0" lang="vi-VN" sz="2800" spc="-1" strike="noStrike">
                <a:solidFill>
                  <a:srgbClr val="ffffff"/>
                </a:solidFill>
                <a:latin typeface="Times New Roman"/>
              </a:rPr>
              <a:t>perpendicular</a:t>
            </a:r>
            <a:r>
              <a:rPr b="0" lang="ro-RO" sz="2800" spc="-1" strike="noStrike">
                <a:solidFill>
                  <a:srgbClr val="ffffff"/>
                </a:solidFill>
                <a:latin typeface="Rockwell"/>
              </a:rPr>
              <a:t>e</a:t>
            </a:r>
            <a:r>
              <a:rPr b="0" lang="vi-VN" sz="2800" spc="-1" strike="noStrike">
                <a:solidFill>
                  <a:srgbClr val="ffffff"/>
                </a:solidFill>
                <a:latin typeface="Times New Roman"/>
              </a:rPr>
              <a:t> pe direcţia de mers. </a:t>
            </a: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imes New Roman"/>
              </a:rPr>
              <a:t>Al treilea tip de unde, undele de suprafaţă, provoacă unduirea solului şi accentuează efectul distrugator al undelor secundare.</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49120"/>
            <a:ext cx="8242560" cy="1165320"/>
          </a:xfrm>
          <a:prstGeom prst="rect">
            <a:avLst/>
          </a:prstGeom>
          <a:ln w="0">
            <a:noFill/>
          </a:ln>
        </p:spPr>
      </p:pic>
      <p:sp>
        <p:nvSpPr>
          <p:cNvPr id="400"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1. Unda P :</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este o undă longitudinală, de compresie</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determină mişcarea particulelor solului paralel cu direcţia de propagare</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unda se deplasează prin compresie-dilatare în direcţia de mers</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amplitudinea acestei unde este direct proporţională cu magnitudinea (energia cutremurului)</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este percepută la suprafaţă de către oameni ca pe o săltare, un mic şoc în plan vertical</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ffff"/>
                </a:solidFill>
                <a:latin typeface="Times New Roman"/>
              </a:rPr>
              <a:t>nu este periculoasă pentru structuri (clădiri) deoarece conţine (transportă) aproximativ 20% din energia totală a cutremurului</a:t>
            </a:r>
            <a:r>
              <a:rPr b="0" lang="ro-RO" sz="2700" spc="-1" strike="noStrike">
                <a:solidFill>
                  <a:srgbClr val="ffffff"/>
                </a:solidFill>
                <a:latin typeface="Rockwell"/>
              </a:rPr>
              <a:t>.</a:t>
            </a: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49120"/>
            <a:ext cx="8242560" cy="1165320"/>
          </a:xfrm>
          <a:prstGeom prst="rect">
            <a:avLst/>
          </a:prstGeom>
          <a:ln w="0">
            <a:noFill/>
          </a:ln>
        </p:spPr>
      </p:pic>
      <p:sp>
        <p:nvSpPr>
          <p:cNvPr id="40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2. Unda S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o undă transversală, de forfecar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termină mişcarea particulelor solului perpendicular (transversal) faţă de direcţia de propagar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plasarea acestei unde este similară cu înaintarea unui şarpe (mişcări ondulatorii stânga-dreapta faţă de direcţia de înaintare)</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resimţită la suprafaţă sub forma unei mişcări de forfecare, de balans în plan orizontal</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este periculoasă, deoarece transportă aproximativ 80% din energia totală a cutremurului</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determină distrugeri proporţionale cu magnitudinea cutremurului şi cu durata de oscilatie</a:t>
            </a:r>
            <a:r>
              <a:rPr b="0" lang="ro-RO" sz="2200" spc="-1" strike="noStrike">
                <a:solidFill>
                  <a:srgbClr val="ffffff"/>
                </a:solidFill>
                <a:latin typeface="Rockwell"/>
              </a:rPr>
              <a:t>;</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rPr>
              <a:t>clădirile cad datorită intrării în rezonanţă a frecvenţei proprii de oscilaţie a structurii clădirii cu frecvenţa undei incidente, în acest caz efectul distructiv fiind puternic amplificat .</a:t>
            </a:r>
            <a:endParaRPr b="0" lang="en-US" sz="2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49120"/>
            <a:ext cx="8242560" cy="1165320"/>
          </a:xfrm>
          <a:prstGeom prst="rect">
            <a:avLst/>
          </a:prstGeom>
          <a:ln w="0">
            <a:noFill/>
          </a:ln>
        </p:spPr>
      </p:pic>
      <p:pic>
        <p:nvPicPr>
          <p:cNvPr id="404" name="Picture 3" descr=""/>
          <p:cNvPicPr/>
          <p:nvPr/>
        </p:nvPicPr>
        <p:blipFill>
          <a:blip r:embed="rId2"/>
          <a:stretch/>
        </p:blipFill>
        <p:spPr>
          <a:xfrm>
            <a:off x="457200" y="1447920"/>
            <a:ext cx="3352680" cy="2514600"/>
          </a:xfrm>
          <a:prstGeom prst="rect">
            <a:avLst/>
          </a:prstGeom>
          <a:ln w="0">
            <a:noFill/>
          </a:ln>
        </p:spPr>
      </p:pic>
      <p:pic>
        <p:nvPicPr>
          <p:cNvPr id="405" name="Picture 5" descr=""/>
          <p:cNvPicPr/>
          <p:nvPr/>
        </p:nvPicPr>
        <p:blipFill>
          <a:blip r:embed="rId3"/>
          <a:stretch/>
        </p:blipFill>
        <p:spPr>
          <a:xfrm>
            <a:off x="5334120" y="1523880"/>
            <a:ext cx="2286000" cy="2286000"/>
          </a:xfrm>
          <a:prstGeom prst="rect">
            <a:avLst/>
          </a:prstGeom>
          <a:ln w="0">
            <a:noFill/>
          </a:ln>
        </p:spPr>
      </p:pic>
      <p:pic>
        <p:nvPicPr>
          <p:cNvPr id="406" name="Picture 6" descr=""/>
          <p:cNvPicPr/>
          <p:nvPr/>
        </p:nvPicPr>
        <p:blipFill>
          <a:blip r:embed="rId4"/>
          <a:stretch/>
        </p:blipFill>
        <p:spPr>
          <a:xfrm>
            <a:off x="4343400" y="3962520"/>
            <a:ext cx="4257720" cy="25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242560" cy="1165320"/>
          </a:xfrm>
          <a:prstGeom prst="rect">
            <a:avLst/>
          </a:prstGeom>
          <a:ln w="0">
            <a:noFill/>
          </a:ln>
        </p:spPr>
      </p:pic>
      <p:pic>
        <p:nvPicPr>
          <p:cNvPr id="408" name="Picture 2" descr=""/>
          <p:cNvPicPr/>
          <p:nvPr/>
        </p:nvPicPr>
        <p:blipFill>
          <a:blip r:embed="rId2"/>
          <a:stretch/>
        </p:blipFill>
        <p:spPr>
          <a:xfrm>
            <a:off x="304920" y="1371600"/>
            <a:ext cx="3886200" cy="2584440"/>
          </a:xfrm>
          <a:prstGeom prst="rect">
            <a:avLst/>
          </a:prstGeom>
          <a:ln w="0">
            <a:noFill/>
          </a:ln>
        </p:spPr>
      </p:pic>
      <p:pic>
        <p:nvPicPr>
          <p:cNvPr id="409" name="Picture 3" descr=""/>
          <p:cNvPicPr/>
          <p:nvPr/>
        </p:nvPicPr>
        <p:blipFill>
          <a:blip r:embed="rId3"/>
          <a:stretch/>
        </p:blipFill>
        <p:spPr>
          <a:xfrm>
            <a:off x="4267080" y="1371600"/>
            <a:ext cx="4442040" cy="2590920"/>
          </a:xfrm>
          <a:prstGeom prst="rect">
            <a:avLst/>
          </a:prstGeom>
          <a:ln w="0">
            <a:noFill/>
          </a:ln>
        </p:spPr>
      </p:pic>
      <p:pic>
        <p:nvPicPr>
          <p:cNvPr id="410" name="Picture 4" descr=""/>
          <p:cNvPicPr/>
          <p:nvPr/>
        </p:nvPicPr>
        <p:blipFill>
          <a:blip r:embed="rId4"/>
          <a:stretch/>
        </p:blipFill>
        <p:spPr>
          <a:xfrm>
            <a:off x="304920" y="4038480"/>
            <a:ext cx="3929040" cy="2524320"/>
          </a:xfrm>
          <a:prstGeom prst="rect">
            <a:avLst/>
          </a:prstGeom>
          <a:ln w="0">
            <a:noFill/>
          </a:ln>
        </p:spPr>
      </p:pic>
      <p:pic>
        <p:nvPicPr>
          <p:cNvPr id="411" name="Picture 5" descr=""/>
          <p:cNvPicPr/>
          <p:nvPr/>
        </p:nvPicPr>
        <p:blipFill>
          <a:blip r:embed="rId5"/>
          <a:stretch/>
        </p:blipFill>
        <p:spPr>
          <a:xfrm>
            <a:off x="4572000" y="4038480"/>
            <a:ext cx="3733920" cy="258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450720" y="249120"/>
            <a:ext cx="8242560" cy="116532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lIns="90000" rIns="90000" tIns="46800" bIns="46800" anchor="t">
            <a:normAutofit fontScale="90000"/>
          </a:bodyPr>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astrati-va calmul, nu intrati in panica, linistiti-i si pe ceilalti, protejati copiii, batranii si femeile. Nu va speriati de zgomotele din jur.</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reveniti tendintele de a se parasi sala de clasa, de curs, laboratorul, locuinta etc. deoarece durata redusa a fazei seismice initiale va face ca faza puternica a miscarii sa surprinda grupurile de persoane pe scari, in aglomeratie si panica, conducand la accidente nedorite.</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 fata unei cladiri, ramaneti departe de aceasta, feriti-va de tencuieli, caramizi, cosuri, parapete, cornise, geamuri, care de obicei se pot prabusi in strad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auntru ramaneti acolo, departe de ferestre care se pot sparge, stati inspre centrul cladirii, langa un perete structural rezistent.</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Protejati-va sub o grinda, toc de usa solid, birou, masa, iar copiii sub bancile din clasa sau mese, care sunt suficient de rezistente spre a feri de caderea unor lampi, obiecte, mobile suprapuse, tencuieli ornamentale etc.</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Sprijiniti-va cu palmele pe podea sau tineti-va cu mainile de piciorul mesei sau tocul usii, spre a va asigura stabilitate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 lipsa unor astfel de posibilitati de a va mentine sub soc stabilitatea, va puteti proteja stand la podea langa un perete solid, ghemuit pe genunchi si coate, cu fata in jos: cu palmele impreunate va veti proteja capul (ceafa), iar cu antebratele pe lateral, fata.</a:t>
            </a:r>
            <a:endParaRPr b="0" lang="en-US" sz="16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a:t>
            </a:r>
            <a:endParaRPr b="0" lang="en-US" sz="1600" spc="-1" strike="noStrike">
              <a:solidFill>
                <a:srgbClr val="ffffff"/>
              </a:solidFill>
              <a:latin typeface="Rockwell"/>
            </a:endParaRPr>
          </a:p>
          <a:p>
            <a:pPr marL="262440" indent="-26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0720" y="249120"/>
            <a:ext cx="8242560" cy="116532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chideti sursele de foc cat puteti de repede, iar daca a luat foc ceva, interveniti imediat dupa ce a trecut socul puternic.</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Nu fugiti pe usa, nu sariti pe fereastra, nu alergati pe scari, nu utilizati liftul, dar daca puteti deschideti usa spre exterior, spre a preveni blocarea acesteia, in vederea eventualei evacuari dupa terminarea miscarii seismice si verificarea starii scarilor si a zonei de la iesire. Evitati aglomeratia.</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Nu alergati in strada sau pe strada, deplasati-va calm spre un loc deschis si sigur, feriti-va de versantii de unde pot cadea roci sau de unde pot avea loc alunecari de teren.</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seismul va surprinde in autoturism, opriti-va cat puteti de repede intr-un loc deschis, evitand cladirile prea apropiate de strada, dincolo de poduri, pasaje, linii electrice aeriene si stati inauntru. Feriti-va de firele de curent electric cazut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sunteti intr-un mijloc de transport in comun sau in tren, stati pe locul dvs. pana se termina miscarea seismica. Conducatorul trebuie sa opreasca si sa deschida usile, dar nu este indicat sa va imbulziti la coborare sau sa spargeti ferestrel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In metrou pastrati-va calmul si ascultati recomandarile personalului trenului, daca acesta s-a oprit intre statii in tunel, fara a parasi vagoanele.</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Rockwell"/>
              </a:rPr>
              <a:t>Daca va aflati intr-un loc public cu aglomerari de persoane (teatru, cinematograf, biserica, stadion, sala de sedinte) nu alergati catre iesire; imbulzeala produce mai multe victime decat cutremurul. Stati calm si linistiti-va vecinii de pe rand</a:t>
            </a:r>
            <a:br>
              <a:rPr sz="1600"/>
            </a:br>
            <a:r>
              <a:rPr b="0" lang="ro-RO" sz="1600" spc="-1" strike="noStrike">
                <a:solidFill>
                  <a:srgbClr val="ffffff"/>
                </a:solidFill>
                <a:latin typeface="Rockwell"/>
              </a:rPr>
              <a:t> </a:t>
            </a:r>
            <a:endParaRPr b="0" lang="en-US" sz="1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aria</dc:creator>
  <dc:description/>
  <dc:language>en-US</dc:language>
  <cp:lastModifiedBy>Eu</cp:lastModifiedBy>
  <dcterms:modified xsi:type="dcterms:W3CDTF">2011-01-28T19:40:37Z</dcterms:modified>
  <cp:revision>8</cp:revision>
  <dc:subject/>
  <dc:title>Chitara şi acustica</dc:title>
</cp:coreProperties>
</file>